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7B1-6D84-479F-98BF-EBE80C54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802-7C3E-407C-9FA0-D266D49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E5D-CBEE-40B0-825D-C28D0B89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03E-B3C8-4F88-9ABA-92D5290C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9B7-B084-4B86-9C5C-9121B84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AB0-24FB-42A1-9380-3CEBEBF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031-E27C-480E-A3B0-F10A2AB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604-FA7E-4A68-970D-CC8ED3F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968-B4DE-4C53-B231-5B260EA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D6A-50AB-44FF-AC46-927415B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263-A563-447F-995C-FA413F1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E84-54EF-4184-980E-1BDF1CE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6EF-55FB-4BAF-B48D-6AF4C03A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lect &amp; type 1</a:t>
            </a:r>
            <a:r>
              <a:rPr b="0" lang="en-US" sz="6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word h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elect &amp; ty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py &amp; paste this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ke as many as you li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int on colored tag bo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minate for longer 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File &amp; Print, Handou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4 slides per p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-15840"/>
            <a:ext cx="61722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99600" y="72133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57200"/>
            <a:ext cx="6096240" cy="8305920"/>
          </a:xfrm>
          <a:custGeom>
            <a:avLst/>
            <a:gdLst>
              <a:gd name="textAreaLeft" fmla="*/ 297360 w 6096240"/>
              <a:gd name="textAreaRight" fmla="*/ 5798880 w 6096240"/>
              <a:gd name="textAreaTop" fmla="*/ 297360 h 8305920"/>
              <a:gd name="textAreaBottom" fmla="*/ 8008560 h 8305920"/>
            </a:gdLst>
            <a:ahLst/>
            <a:rect l="textAreaLeft" t="textAreaTop" r="textAreaRight" b="textAreaBottom"/>
            <a:pathLst>
              <a:path w="21600" h="29429">
                <a:moveTo>
                  <a:pt x="3600" y="0"/>
                </a:moveTo>
                <a:arcTo wR="3600" hR="3600" stAng="16200000" swAng="-5400000"/>
                <a:lnTo>
                  <a:pt x="0" y="25829"/>
                </a:lnTo>
                <a:arcTo wR="3600" hR="3600" stAng="10800000" swAng="-5400000"/>
                <a:lnTo>
                  <a:pt x="18000" y="29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3962520"/>
            <a:ext cx="152424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962160" y="3962160"/>
            <a:ext cx="1523880" cy="14475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4:38:04Z</dcterms:created>
  <dc:creator>TTI, User</dc:creator>
  <dc:description/>
  <dc:language>en-US</dc:language>
  <cp:lastModifiedBy>TTI, User</cp:lastModifiedBy>
  <dcterms:modified xsi:type="dcterms:W3CDTF">2003-03-05T14:40:05Z</dcterms:modified>
  <cp:revision>2</cp:revision>
  <dc:subject/>
  <dc:title>Select &amp; type 1st word here</dc:title>
</cp:coreProperties>
</file>